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gif" ContentType="image/gif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3AEF-236C-43B0-BDA6-3B96F2289E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2137-3A06-4227-89ED-3DC857D9B783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5BDC-249F-4951-A3B2-FDA26F988D8B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456D-B529-48E7-96CF-8F49DB91C752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549E-1029-46ED-98AF-00BD9C6E210C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7355-F819-47A3-A914-F81F33E0433F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FFF8-01F9-4900-952E-B5814825FE91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6E86-7A5F-45D8-9BCE-376F4889508D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0976-DEE3-483C-8ACA-2905F992E81E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4AB0-7531-428E-82A5-C6F95019E252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B282-CE92-4E3B-97C1-B5CCFDFCCD20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D472-C509-4341-BE34-52E119EF033D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F2EE-2FB0-4FD8-8058-36DB260D83B4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924E-8F2F-4EA4-893A-FCE4B056847D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3B61-B0FC-43C7-8FC2-3481213A84F2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CF91-044D-40A0-A991-33F31A06DFE9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94CD-2821-455C-A579-1C9AB9E8B31A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4539-C076-411F-90B3-A1D00B294635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E960-DDBE-47C1-99B4-860A56F0AE58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EE2-2E1F-4A78-8847-B83FB47D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6499-1156-4F28-AB27-0D998B2C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325-0B4D-4662-8E92-69CD5A6C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784-C740-4CFE-A891-6C5BDDB8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8087-3235-4B58-A483-A7BCF685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DA1F-F640-4915-8BA2-F51E1378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B493-3BD5-44A3-9B22-94AEFDE0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4EB7-A859-4E8B-9274-AFD900D3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61C7-D206-46F8-A4C8-0BE15D8B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9652-1B1F-407C-A485-81A0887E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3767-9B36-4CEC-879E-407C8A0A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18F-8325-4463-BB4D-38A818C7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6056-10FD-4527-B7B3-AAA8D057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2E50-9A53-4636-A145-FBCAA239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57B7-63FF-4BE2-AEDD-324E90E1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8E31-312E-4058-8C05-6C983E3D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5F8D-E13B-46D6-842E-17940320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9259-5A11-4CE0-AF84-AD91C269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57E-DDC6-465B-A1EC-F5ADDC5B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B3E9-EEB0-42B7-9FD0-0833A507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30D3-8E00-423E-8BEB-7AF28389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1D3D-A696-4004-AC17-C15183E1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D3F-CDAE-4110-9A14-104D7E48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8151-061D-4F9A-B404-3B924BE6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E8CD-5EE4-45F6-8E98-37BF6A872C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5E28-74FA-4625-807F-8B60FE601309}" type="slidenum">
              <a:rPr b="0" lang="en-US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y the end of the lesson you should be able to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34" name="Picture 3" descr="Blood"/>
          <p:cNvPicPr/>
          <p:nvPr/>
        </p:nvPicPr>
        <p:blipFill>
          <a:blip r:embed="rId1"/>
          <a:srcRect l="0" t="22747" r="0" b="0"/>
          <a:stretch/>
        </p:blipFill>
        <p:spPr>
          <a:xfrm>
            <a:off x="1619280" y="1413000"/>
            <a:ext cx="5832360" cy="4506840"/>
          </a:xfrm>
          <a:prstGeom prst="rect">
            <a:avLst/>
          </a:prstGeom>
          <a:ln w="0">
            <a:noFill/>
          </a:ln>
        </p:spPr>
      </p:pic>
      <p:sp>
        <p:nvSpPr>
          <p:cNvPr id="135" name="Line 4"/>
          <p:cNvSpPr/>
          <p:nvPr/>
        </p:nvSpPr>
        <p:spPr>
          <a:xfrm flipV="1">
            <a:off x="684360" y="3573360"/>
            <a:ext cx="1439640" cy="28728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8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4191120" y="2362320"/>
            <a:ext cx="4572000" cy="173988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              </a:t>
            </a: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Anti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070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ll cells have surface markers called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gen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body can recognise these as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(foreign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42" name="Picture 4" descr="Bacteria covered in antigens"/>
          <p:cNvPicPr/>
          <p:nvPr/>
        </p:nvPicPr>
        <p:blipFill>
          <a:blip r:embed="rId1"/>
          <a:stretch/>
        </p:blipFill>
        <p:spPr>
          <a:xfrm>
            <a:off x="5651640" y="321300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antigens"/>
          <p:cNvPicPr/>
          <p:nvPr/>
        </p:nvPicPr>
        <p:blipFill>
          <a:blip r:embed="rId2"/>
          <a:srcRect l="0" t="0" r="57708" b="56708"/>
          <a:stretch/>
        </p:blipFill>
        <p:spPr>
          <a:xfrm>
            <a:off x="5724360" y="907920"/>
            <a:ext cx="208944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cc"/>
                </a:solidFill>
                <a:latin typeface="Comic Sans MS"/>
              </a:rPr>
              <a:t>Specific response</a:t>
            </a:r>
            <a:endParaRPr b="0" lang="en-US" sz="4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Lymphocytes detect presence of foreign antigen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timulated to produce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pecific proteins called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5435640" y="2492280"/>
          <a:ext cx="29163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492280"/>
                    <a:ext cx="29163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ntibodies combine with their specific antigen (like a lock and key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is renders the pathogen harmles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primary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1763640" y="1773360"/>
            <a:ext cx="5472360" cy="2952720"/>
            <a:chOff x="1763640" y="1773360"/>
            <a:chExt cx="5472360" cy="2952720"/>
          </a:xfrm>
        </p:grpSpPr>
        <p:pic>
          <p:nvPicPr>
            <p:cNvPr id="150" name="Picture 4" descr="antibodieaction2"/>
            <p:cNvPicPr/>
            <p:nvPr/>
          </p:nvPicPr>
          <p:blipFill>
            <a:blip r:embed="rId1"/>
            <a:stretch/>
          </p:blipFill>
          <p:spPr>
            <a:xfrm>
              <a:off x="1763640" y="1773360"/>
              <a:ext cx="547236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5"/>
            <p:cNvSpPr/>
            <p:nvPr/>
          </p:nvSpPr>
          <p:spPr>
            <a:xfrm>
              <a:off x="4050000" y="3147120"/>
              <a:ext cx="554040" cy="2059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579600"/>
            <a:ext cx="800100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it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2050560"/>
            <a:ext cx="800100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 the bodies ability to resist infection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can be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natural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acquired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ological memor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after an infection is fought off some lymphocytes become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memory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cells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f same pathogen returns memory cells stimulate the produce the specific antibody very rapidly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the infection is fought off before symptoms appear =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secondary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vaccines can stimulate same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an you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Arial"/>
              </a:rPr>
              <a:t>This powerpoint was kindly donated to www.worldofteaching.com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First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2895840" cy="1524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0099"/>
                </a:solidFill>
                <a:uFillTx/>
                <a:latin typeface="Comic Sans MS"/>
              </a:rPr>
              <a:t>skin</a:t>
            </a:r>
            <a:r>
              <a:rPr b="0" lang="en-GB" sz="21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Comic Sans MS"/>
              </a:rPr>
              <a:t>prevents entry by </a:t>
            </a: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Comic Sans MS"/>
              </a:rPr>
              <a:t>shedding causing </a:t>
            </a: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Comic Sans MS"/>
              </a:rPr>
              <a:t>acidic conditions</a:t>
            </a: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96" name="Picture 4" descr="vbodyman"/>
          <p:cNvPicPr/>
          <p:nvPr/>
        </p:nvPicPr>
        <p:blipFill>
          <a:blip r:embed="rId1"/>
          <a:stretch/>
        </p:blipFill>
        <p:spPr>
          <a:xfrm>
            <a:off x="2700360" y="1916280"/>
            <a:ext cx="3852720" cy="403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5435640" y="119700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tear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antibacterial               enzym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126828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aliv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antibacterial               enzym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209680" y="502920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tomach acid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low pH kills harmful microb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372360" y="270828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</a:rPr>
              <a:t>Nose mucus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linings traps dirt and microb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796000" y="4508640"/>
            <a:ext cx="33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“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good” large intestine bacteri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keep out pathogens by competing with bad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2514600" y="2819520"/>
            <a:ext cx="106668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3" name="Line 12"/>
          <p:cNvSpPr/>
          <p:nvPr/>
        </p:nvSpPr>
        <p:spPr>
          <a:xfrm flipH="1" flipV="1">
            <a:off x="4647960" y="2286000"/>
            <a:ext cx="1724040" cy="782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4716000" y="1557360"/>
            <a:ext cx="647640" cy="647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635280" y="1916280"/>
            <a:ext cx="936720" cy="433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3962520" y="3357360"/>
            <a:ext cx="680760" cy="1747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7" name="Line 16"/>
          <p:cNvSpPr/>
          <p:nvPr/>
        </p:nvSpPr>
        <p:spPr>
          <a:xfrm flipH="1" flipV="1">
            <a:off x="4642920" y="3573000"/>
            <a:ext cx="1081080" cy="1150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0" y="365760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weat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food from sweat allows good bacteria to live, these repel pathogenic bacteria            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9" name="Line 11"/>
          <p:cNvSpPr/>
          <p:nvPr/>
        </p:nvSpPr>
        <p:spPr>
          <a:xfrm flipV="1">
            <a:off x="3276720" y="2895120"/>
            <a:ext cx="9144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atho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disease causing micro-organism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bacteria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virus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fungi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otozoa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arasite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2" name="Picture 4" descr="bacecoli"/>
          <p:cNvPicPr/>
          <p:nvPr/>
        </p:nvPicPr>
        <p:blipFill>
          <a:blip r:embed="rId1"/>
          <a:stretch/>
        </p:blipFill>
        <p:spPr>
          <a:xfrm>
            <a:off x="5651640" y="1916280"/>
            <a:ext cx="2544480" cy="183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pho_01"/>
          <p:cNvPicPr/>
          <p:nvPr/>
        </p:nvPicPr>
        <p:blipFill>
          <a:blip r:embed="rId2"/>
          <a:stretch/>
        </p:blipFill>
        <p:spPr>
          <a:xfrm>
            <a:off x="3564000" y="3068640"/>
            <a:ext cx="1619280" cy="2419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30005b"/>
          <p:cNvPicPr/>
          <p:nvPr/>
        </p:nvPicPr>
        <p:blipFill>
          <a:blip r:embed="rId3"/>
          <a:srcRect l="0" t="3780" r="0" b="4725"/>
          <a:stretch/>
        </p:blipFill>
        <p:spPr>
          <a:xfrm>
            <a:off x="5796000" y="4230720"/>
            <a:ext cx="2663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Second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5986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volves white blood 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nvading pathogens are targeted by macrophage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lymphocytes produce chemicals called antibodies that target specific pathogen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7" name="Picture 4" descr="259"/>
          <p:cNvPicPr/>
          <p:nvPr/>
        </p:nvPicPr>
        <p:blipFill>
          <a:blip r:embed="rId1"/>
          <a:srcRect l="0" t="0" r="6890" b="0"/>
          <a:stretch/>
        </p:blipFill>
        <p:spPr>
          <a:xfrm>
            <a:off x="6012000" y="2276640"/>
            <a:ext cx="2447640" cy="1804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bact11"/>
          <p:cNvPicPr/>
          <p:nvPr/>
        </p:nvPicPr>
        <p:blipFill>
          <a:blip r:embed="rId2"/>
          <a:stretch/>
        </p:blipFill>
        <p:spPr>
          <a:xfrm>
            <a:off x="6443640" y="4292640"/>
            <a:ext cx="21384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20" name="Picture 3" descr="Blood"/>
          <p:cNvPicPr/>
          <p:nvPr/>
        </p:nvPicPr>
        <p:blipFill>
          <a:blip r:embed="rId1"/>
          <a:srcRect l="0" t="0" r="0" b="34121"/>
          <a:stretch/>
        </p:blipFill>
        <p:spPr>
          <a:xfrm>
            <a:off x="1066680" y="1752480"/>
            <a:ext cx="6264360" cy="412776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 flipH="1" flipV="1">
            <a:off x="6372360" y="2852280"/>
            <a:ext cx="2016000" cy="64764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These are a general name for Monocytes and macrophages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Provide a non-specific response to infection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4" name="Picture 4" descr="Phagocytose"/>
          <p:cNvPicPr/>
          <p:nvPr/>
        </p:nvPicPr>
        <p:blipFill>
          <a:blip r:embed="rId1"/>
          <a:stretch/>
        </p:blipFill>
        <p:spPr>
          <a:xfrm>
            <a:off x="5486400" y="3429000"/>
            <a:ext cx="2482920" cy="2579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4303087"/>
          <p:cNvPicPr/>
          <p:nvPr/>
        </p:nvPicPr>
        <p:blipFill>
          <a:blip r:embed="rId2"/>
          <a:stretch/>
        </p:blipFill>
        <p:spPr>
          <a:xfrm>
            <a:off x="838080" y="3809880"/>
            <a:ext cx="329112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34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Stages in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57160" indent="-399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detects chemicals released by a foreign intruder (e.g. bacteria)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5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57160" indent="-399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phagocyte adheres to the foreign cell and engulfs it in a vacuole by an infolding of the cell membran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57160" indent="-399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ysosomes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( which are rich in digestive enzymes &amp; found in the phagocytes cytoplasm) fuse with the vacuole &amp; release their contents into it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756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3999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bacterium is digested by the enzymes, and the breakdown products are absorbed by the phagocyt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During infection, hundreds of phagocytes are needed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us is dead bacteria and phagocytes!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u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36800" y="1846080"/>
            <a:ext cx="39258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An accumulation of : -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phagocyt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stroyed bacteria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cell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2" name="Picture 4" descr="acne2"/>
          <p:cNvPicPr/>
          <p:nvPr/>
        </p:nvPicPr>
        <p:blipFill>
          <a:blip r:embed="rId1"/>
          <a:stretch/>
        </p:blipFill>
        <p:spPr>
          <a:xfrm>
            <a:off x="539640" y="170028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</dc:creator>
  <dc:description>the immune system phagocytosis</dc:description>
  <cp:keywords>the immune system phagocytosis</cp:keywords>
  <dc:language>en-US</dc:language>
  <cp:lastModifiedBy>David</cp:lastModifiedBy>
  <dcterms:modified xsi:type="dcterms:W3CDTF">2010-10-24T22:08:43Z</dcterms:modified>
  <cp:revision>9</cp:revision>
  <dc:subject>the immune system phagocytosis</dc:subject>
  <dc:title>the immune system phagocytosis antibody fun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